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D89-D976-4FF6-AEF5-017EA5D6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33F-2AA0-4BF5-90F8-58C9A892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A7F-A749-4B75-B2A7-DCC4B228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597-BE1D-40B8-B80B-6EC5C2F3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1EF8-57B4-4434-B2BB-14FDA3D5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CD5C-768A-4F25-A7A3-4635D068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11E8-DD8A-46FA-B4C9-7433857B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25DC-2B39-4BF7-8B36-8341ABC8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8601-10A6-4287-9F73-652685B9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59D3-70AF-4593-8C87-A2B3BCCA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F755-927D-4D3D-A85A-9F5281EF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175-90BA-4B26-AC76-397704E0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7A3A-D8C3-4A2B-B47A-50632174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78B1-643D-4BE9-90C5-0CBD95C5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E64E-A3CC-4F52-B94B-0EC358AB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1569-1D50-4C77-88FE-F751A865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3824-8B4E-4B0C-BF3A-3F39D7F0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280-852C-4D0A-B356-59B1F7C8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B24-E329-4BC6-B411-5F826A07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2796-2446-4DC5-B948-822F8521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983-7C21-4439-8D1B-C4CC66BC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61D-AD9C-458F-BE71-99FE1275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A5B-ABAF-4D5B-8B12-E0A500C3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DD2-78AC-4D68-86F2-4AC6BDBA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944C-4BAE-4513-93B7-89AEDD3DCD50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19C0-CAFF-4BEB-BBC5-27A4145FF956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 of the line through the points (-5, 5) and (7, 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the slope and a point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graph a line.  Use the point as your starting point and count the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If your slope is a whole number, think of it as a fraction by putting it over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line through the poi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, 2) that has a slope of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(3, 2) as your starting point and think of your slope as 4 over 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line with slope of 2/3 that goes through the point (4, 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line that goes through the point    (-2, 5) and has a slope of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is the measure of steepness of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wo points with coordin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) and (         ) on a line, the slope of the line is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66680" y="3048120"/>
          <a:ext cx="1001880" cy="53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3048120"/>
                    <a:ext cx="10018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276720" y="3048120"/>
          <a:ext cx="1028520" cy="54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3048120"/>
                    <a:ext cx="102852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86000" y="4952880"/>
          <a:ext cx="3594240" cy="1343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4952880"/>
                    <a:ext cx="359424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of a horizontal line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of a vertical line --- undefin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p of your fraction is the “rise” par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number is positive --go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number is negative -- go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ttom of your fraction is the “run”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number is positive -- g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number is negative -- go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your points before plugging into the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 of the line through the points (8, -4) and (-2, -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 of the line through the points (0, 0) and (7, 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 of the line through the points (11, 1) and (-12, 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8:37:19Z</dcterms:created>
  <dc:creator>Parkland School District</dc:creator>
  <dc:description/>
  <dc:language>en-US</dc:language>
  <cp:lastModifiedBy>Parkland High School</cp:lastModifiedBy>
  <dcterms:modified xsi:type="dcterms:W3CDTF">2010-12-02T16:07:17Z</dcterms:modified>
  <cp:revision>5</cp:revision>
  <dc:subject/>
  <dc:title>Slope</dc:title>
</cp:coreProperties>
</file>